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B381-B81E-4ECA-9070-C82D0647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C47-7B73-4931-AB66-FA29E4DE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E503-3F8F-481A-858B-949643DF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10B-82D1-40CF-9472-1D1307FB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3AB8-50D6-4C1D-906B-36B503ED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E0DA-5AE0-448C-9236-812D5549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0D43-F616-447E-8831-819925F0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3931-FD36-4494-B865-79D30002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82A3-666A-4C91-AE25-8F0324F3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281C-2A90-4E3C-9F02-BC956A49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34C3-6960-4B9C-B52A-43BC8D20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45A-D5BD-411A-8A9C-D5019408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01DE-C56C-4183-8302-F94CCECF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621A-77D2-4720-A719-B9086E7B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464F-3923-4E51-B937-6F7DDED6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2ECC-9582-46F8-BE8F-DF2E53E5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F5FE-8596-449A-9616-C9C7EBF7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1B7-9E62-47A7-ABD1-4C9EA901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80F-107F-4CF8-843E-E1D32C49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EBE-37D3-497F-9DD0-345AB6A3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3D4-C386-4347-B1B4-3B28440E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098-C21A-4235-AEDB-E5EEF2C2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D2B5-99B2-408D-B93C-1C17109D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C33D-8FA9-4AC4-8A49-4B318A2D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CFC5-6E55-428F-AFD0-46AD2071BB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0DFA-57FB-4078-A711-3649CF7FAF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acilit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s all directions &amp; questions to the group and initiates the team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he discussion or group work and makes sure that each member con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states what members say: “So what you are telling us is that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124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source Manag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438280" cy="26668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s out and puts away all group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track of time and makes sure that group gets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when the group needs the teacher’s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orter/ Record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notes on the reading or the group’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s the work of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 findings to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2590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sk Manag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s the team to stay on ta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the team talk focused on the work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group facts and findings for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327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4:31:44Z</dcterms:created>
  <dc:creator>Technology Department</dc:creator>
  <dc:description/>
  <dc:language>en-US</dc:language>
  <cp:lastModifiedBy>Technology Department</cp:lastModifiedBy>
  <dcterms:modified xsi:type="dcterms:W3CDTF">2010-03-23T14:52:25Z</dcterms:modified>
  <cp:revision>6</cp:revision>
  <dc:subject/>
  <dc:title>Discussion/ Activity Director</dc:title>
</cp:coreProperties>
</file>